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LlyFvT9G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269720" y="3746160"/>
            <a:ext cx="1046484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ULA 3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095480" y="1066680"/>
            <a:ext cx="11366280" cy="76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úmeros Ordinai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atividade em sala de aul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1˚ - primeir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24˚- vigésimo quart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50˚- quinquagésim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89˚ - octogésimo non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12˚ - décimo segund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10˚ - décim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028880" y="1638000"/>
            <a:ext cx="1046448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ste é o meu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rimeiro ano </a:t>
            </a: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na Bung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étimo an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écimo segundo an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nono an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rigésimo an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xto an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Nicola trabalha na Bunge há mais tempo que todo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lissa trabalha há menos tempo que todo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1031760" y="740160"/>
            <a:ext cx="1044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úmeros Ordinai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tividade em sala de aul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68280" y="304920"/>
            <a:ext cx="10541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úsica: Trabalhador “Seu Jorge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letras.mus.br/seu-jorge/1089734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escubra o que significa as expressões (atividade na sala de aul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406240" y="1774080"/>
            <a:ext cx="2510640" cy="80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r na lu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-Cor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-a-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mi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ã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ntis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s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mbei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í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enhei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m jei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 pro serviç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ão dá pra nad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ç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çone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ris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rei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lha igual bur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4092840" y="4428000"/>
            <a:ext cx="531936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ção de casa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s 26, 27 e 31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98400" y="609480"/>
            <a:ext cx="8356680" cy="71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Vocabulário música “Trabalhador” - Seu Jor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r na luta - to be struggling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-Cor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-a-Dia - day by 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mita - lunchbo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ão - bo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i - street clean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ntista - gas station pump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sta - denti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mbeiro - firema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ícia - police offic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enheiro - enginee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um jeito - to find a way to do somet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 pro serviço - go to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ão dá pra nada - impossible to do anyt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çom - waite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çonete - waitr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rista - juri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reiro - ma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lha igual burro - to be working like an animal (hors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269720" y="181584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ostar De” - To like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214560" y="3269880"/>
            <a:ext cx="1256436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ocê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gostou da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música do Seu Jorg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Que tipo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música você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gosta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ocê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gosta 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escutar música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Que música brasileira você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gostaria 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aprender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ocê </a:t>
            </a:r>
            <a:r>
              <a:rPr b="1" lang="en-US" sz="4200" spc="-1" strike="noStrike">
                <a:solidFill>
                  <a:srgbClr val="ff2712"/>
                </a:solidFill>
                <a:latin typeface="Gill Sans"/>
                <a:ea typeface="Gill Sans"/>
              </a:rPr>
              <a:t>gosta 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escutar música no dia-a-dia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337760" y="4382640"/>
            <a:ext cx="10316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ENHA UMA BOA SEMANA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441000" y="796320"/>
            <a:ext cx="7341840" cy="87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álogo - Feriado Prolongado - Parte 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Como foi seu feriado prolongad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Bom/Legal/Ruim. E o seu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Com quem você passou o Thanksgiving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Eu passei com_______. E você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Eu passei com_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Aonde vocês foram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Fomos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O que você comeu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Eu comi_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Você fez compras no Black Friday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__________E você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____________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Você trabalhou algum dia do feriado prolongad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___________E você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________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Foi muito bom conversar com você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1: Eu também gostei. Obrigada (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ga 2: De nad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-1295280" y="-43164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-1295280" y="-43164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97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halkboard Bold"/>
                <a:ea typeface="Chalkboard Bold"/>
              </a:rPr>
              <a:t>Modo Imperativo (unidades 26 &amp; 27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385920" y="2235240"/>
            <a:ext cx="122425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Complet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1. (trabalhar - vocês) _______ mais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2. (mandar - você) _______ um e-mail para ele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3. (comer - você) _______ tudo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4. (beber - vocês) Não _______! Vocês vão dirigir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5. (discutir - você) Não _______ comigo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6. (insistir - vocês) Por favor, não _______ 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7. (dizer - você) Por favor, não _______ nada!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8. (fazer - você) Por favor, ______ um café para nós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9. (ver - você) Por favor, _______ a apresentação que eu fiz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10. (dar - você) Por favor, _______ uma olhada no meu trabalho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117440" y="399960"/>
            <a:ext cx="1076976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ê sabe o que significa 13 salário?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ista o vídeo da aula 3  no wiki page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2514600"/>
            <a:ext cx="944856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ári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pança - saving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s - gif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s - bill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tificação natalina - Christmas bonu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r o poder de compra - to increase purchasing power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a lei - by law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ir na conta - be cleared in bank accoun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90360" y="1511280"/>
            <a:ext cx="10464840" cy="788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favor, escreva o seu nome.(escrev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hem o meu relatório hoje! (olha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ga um bolo. (traz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jam alguns sapatos. (v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ja um pouco atento. (s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a em frente do prédio.  (sai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a a verdade. (diz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ha já! (vi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 para o trabalho! ( i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bam como aprender os verbos imperativos. (sab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bam as formas dos verbos no (do) imperativo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ja lá! ( esta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que lá/aqui! (fica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49640" y="41760"/>
            <a:ext cx="1153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rases dos alunos! (atividade em sala de aula)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74720" y="647640"/>
            <a:ext cx="115189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SPONDA AS PERGUNTAS SOBRE O VÍDEO DA AULA 3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[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 Bold"/>
                <a:ea typeface="Times New Roman Bold"/>
                <a:hlinkClick r:id="rId1"/>
              </a:rPr>
              <a:t>http://www.youtube.com/watch?v=XBLlyFvT9GM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] (atividade em sala de aul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s brasileiros destinam o 13 salário para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oupança, presentes e pagamento de con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pagamento de contas, viagens e fes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poupança, férias e presen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 13 salário é chamado d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écimo térceiro salá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ratificação natali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bono sala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6135480" y="2628360"/>
            <a:ext cx="6742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 principal objetivo para a criação do 13 salário foi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umentar o poder de compra do trabalhad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deixar os trabalhadores feliz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erar consumo na época de fes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ela lei, tem direito a receber o 13 salario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omente os trabalhadores SEM vínculo empregatí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odos os trabalhado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todos os trabalhadores COM vínculo empregatí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Quando o 13 salário foi criad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Em 197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Em 196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Em 199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2184480"/>
            <a:ext cx="129920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sponda (atividade em sala de aula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 partir deste ano a Bunge começará a pagar décimo terceiro para todos os funcionários. O que você </a:t>
            </a:r>
            <a:r>
              <a:rPr b="0" lang="en-US" sz="4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vai faz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m o salário extra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